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  <p:sldId id="260" r:id="rId20"/>
    <p:sldId id="261" r:id="rId21"/>
    <p:sldId id="262" r:id="rId22"/>
    <p:sldId id="263" r:id="rId23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slide" Target="slides/slide5.xml"/><Relationship Id="rId21" Type="http://schemas.openxmlformats.org/officeDocument/2006/relationships/slide" Target="slides/slide6.xml"/><Relationship Id="rId22" Type="http://schemas.openxmlformats.org/officeDocument/2006/relationships/slide" Target="slides/slide7.xml"/><Relationship Id="rId23" Type="http://schemas.openxmlformats.org/officeDocument/2006/relationships/slide" Target="slides/slide8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5109D-5E55-4034-8372-A0723AB425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CAA2E-14AE-4D54-8D49-F787745C50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3DA485-CE4C-47A6-B344-9FBA3AC317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8B40221-151E-4403-844D-0092BDAAAC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028B15-1682-41A0-9BA6-FD54308AB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87A9BA-F160-4E92-B75A-56A80C6FD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47B273A-39FA-4AC2-B78C-786AD220C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F22496-4294-4C7A-BB33-6053E046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5DD6034-A887-4C78-8B8D-0A68CEB84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5FFBD97-3592-4ECF-A79A-FFB6C0E82C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E5D3F5-53DD-4495-A755-A48B09D63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8DA2212-A80E-47C3-940D-92D9871B6C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7DA04-9321-4B2B-839B-FFD3C8999B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A99B465-93CD-4CE9-B6BA-885741BFF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DE99E-929A-4DC7-B08A-E3276861E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6439D59-F3C8-4E6E-92EC-57FBA31A5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FD4822-9310-4941-9348-07DFFBE9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358BE1D-9942-43F1-A24E-929D5064E8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7AE8B9-0F7D-4F84-94F5-756363DDA7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9A4F122-F3A9-4B19-954E-27EF1CC91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B8A4B7-7FC4-4B8A-A0D0-484B2E22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9940714-D57C-4624-A90E-6789842BFE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CD8F4-9C3A-4C56-B61E-749955B3C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F40F8-CF05-4674-9D83-7A699FEE9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5097DB-B1A2-42DE-9BA4-B5ABE113C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CBEF8AB-1E66-4569-B1E2-A36F6E6DA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129B77-74D4-46D4-8193-35F5955DC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5F9645-F577-4072-B1F3-19C4C3F59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CAD55D-D267-458C-8DA9-8ED43EAA7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C2079C6-8136-4797-AE4A-9BC932CA7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FDB3A0-D1B7-48EC-A00B-B8B9B7814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FD65863-C965-40B6-942F-79F181ED4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572B7FB-441C-426E-8D65-5BC1E577F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C0CC2F3-AB5B-4F88-8651-F37B42771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F8F5F-A2FB-4091-8071-87A7697393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BDF561-EB58-40FE-BFD2-ADCDD8265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BAF9A2-75E0-4EA6-828D-FE2C43457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B9EC91-A69A-4795-9896-F1E8E705FF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3994E7-BD8B-4118-907F-CAA01D0684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EF0C29D-C4BE-4024-ACBA-99171B308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012A0F-2C56-4DC5-B5E1-E1D520E759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85CEDDF-1D62-4208-ABB8-15944D6EA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7D5A317-86A9-440E-AB33-73DA4D79E2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ED77AF-C1F9-40E9-AEEF-BD723C894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8A1CA4-0CA0-4BF5-90DD-41C6EF93F8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D6FAA-E0F5-4D18-8E03-B594CF6FF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B233068-0606-4A97-BBEB-BEDD29363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C92BD2C-9BE7-49BE-8F06-E8DB9026B9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F2890B7-DDBD-4188-B517-D8DF3B28D8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711E53A-26F4-4B62-8DE0-A32A544260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7D8F940-004D-49FC-8E04-4851200B6A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3AC9781-7D0F-414F-BDF7-455BA177B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15346A2-7453-4129-9AA3-D6E0E95DC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2327EEC-9B8F-4EBE-BC11-C9C770739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32A82C7-CE65-4AF2-8CC0-78AFA3FB7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BD6D197-2702-4125-AF2B-C364A0C98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1C7605-132F-4005-AC67-09E95C3D9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843ED9C-47DC-412C-B91E-B3F8B2A6F8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21AB7DB-A1ED-4317-A432-350318233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228C8CB-4115-4840-90DA-0F73FE31D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DF7D1BA-CB07-4F9A-8CE0-065E069D7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9C2576-0837-42B9-AEA5-EF00002D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CA09BB8-8D1E-4831-B6B0-597415658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D8BCFEF-639A-4699-83BB-47F3804C6B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38BCFBB-21F6-48F3-83BF-8D34F55B88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48E2783-4D85-4841-9329-3823CE2538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5C72794-4B96-48E8-A38C-0B9C64EC29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2D3F38-DE88-42D1-A51C-0388814FA9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C4A8F59-BDAC-4CE3-AAC1-F923E0D52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2FD15FB-CE9B-4346-B45A-BCE7E7ED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0876D66-8C0C-474D-B3D4-041AB13C4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3759E93-22D2-4CA2-8C56-061694AEA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8BA06F4-2DB4-43F7-A4B4-9D70887C2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4FB6E35-9F28-4373-AAED-278EBB50F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D256891-471C-4898-BAE1-3984E23CD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6534E4F-97E4-499A-A07F-3301671C6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303F08-ABB0-4576-AB9D-3780F1C264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537692-0DF4-4FED-BFC8-3B0BD98F1F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41306-BEF6-406C-B291-EA521F9C7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0591E-8793-4FB8-8D5A-B3922CBB81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D35A5-52C9-4126-9393-4726D32B5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9E9690-82E7-400F-874B-30AA00932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50CEC1-6A1F-437B-A3B6-84A3B5932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12BE3-BD80-4788-97CE-0C7100A31A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E64FED-019F-405F-903E-95DCA84E5D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B4C78-E0E3-4D2F-BDA7-60C71F12C5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7A444-576F-4074-AA90-D69597F7D6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E00A0F-05B1-48F2-8522-333E0B0B7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1B1021-32A3-4809-9EBD-DC1F376C2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D8BD21-AA99-427F-8484-62E6540FD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88FC03-A1FB-4DA2-A10A-660BD3C49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5A547-53E2-465C-998D-7851CC71E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0440598-A910-4123-A0DE-79A43E357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2EFE305-7885-4F08-A5B1-7C977F08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099C3-C34D-4D3A-91F0-A7A8D845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64C9BF-08EF-4E92-A6AD-2541D426A5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F3DAEF-A14A-41BA-BB02-C8CB6CB5BA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521B67-E27A-4E57-8F59-1D462A4D8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922D41-7197-4676-A98F-35AD9879F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38CA8BA-592C-4DAC-B257-2166E6EE56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0D5A9A-1EB4-4CD5-BB47-3DF55F6FE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53AC2EB-8351-4084-BCA9-8C5F3FE08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7CE7E-A2E3-4FC7-BD42-101931199D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3F82B-080C-40C9-9C82-D80291B79E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BEE062-6FB1-45B1-8D11-A71988088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94300EF-82CA-4A35-AC3A-BBBFC3243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EB48D0-9449-411F-A5D7-E28790F0BE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CDC878-602B-454F-87D8-E56DDBE13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9B634-B1AF-4BB1-AF62-A5CCCD6D6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846F9B-47F6-4BAE-A20E-729B0E402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FAF372-4672-4258-814D-FB8E436C7E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E7A3D1-14B3-46C9-90F8-DD68BEFCE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6BDEB1-18FA-44B0-BFEF-12E6E997C8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BC3E5-D5FB-466C-B06C-4936EC429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20867DB-3B33-4FA2-803D-D5809C36A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E8706D5-C568-47AA-B74D-756AF35C9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14F51A0-19F4-4249-8CE7-73D4A0FB3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4FF41D-D9F0-4D85-AD10-B8E0544D7B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F55AAFD-1F40-4753-BCA3-6687CEF5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B21CD1-981C-4D3C-AADB-30CCEA531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73CAEC2-351E-4D61-8F0A-F9F42921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9BFDD8-B4B2-4A66-B19B-7AC5086C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B5FFBF-A6B9-43F0-86A8-F5B86059E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38D6AD7-30FA-4F0D-82A1-4B8EA9E1A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E3EB-C5F7-465C-AF07-ADBD5725D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503B5D-B384-4112-9D64-3A559BB332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21161CB-68AB-4045-89A8-8A6B42B40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41D63E-5387-4C03-9DE2-63BB0086BF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3BD310B-DF83-4B80-815B-688147063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DB58C50-ED15-4EE9-8342-C04F334E7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787DFF-564B-4239-8C1C-C5975D55B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46C1F4-DEC0-460E-958F-229E8B3EA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E5F643B-B2A6-471D-85A3-4806282C8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3CA5EE-11BC-4A7D-9A9D-A84A210E5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2DB1C84-EFD6-47DC-AC18-F26534775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6F515-7D52-4857-B30B-7A86CC7BD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DAEF2B5-6AF0-4A03-B18D-2950CD9E6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37B9C2E-FDE5-424E-A47A-F4B42A444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30DF85-BF8B-41E3-94FF-43E5E4051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CF4508-5FAF-4EE5-B736-60538E95B7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9748D-06B8-41CC-80BE-47190C15C6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71C20DC-1ED5-4B6E-A6E4-45CABE0AB9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4226CB-EB1A-4DB7-BBD2-CC2BB8E4C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A289A7-E77E-4792-ACB3-AFBAEC5780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20D533-1A5B-44B5-83F5-3BC9E683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C3A2394-4EDF-4E74-A38D-9C3738EAB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426C7-3653-4D29-8212-4743EA0117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B8EDAE-39C3-41BB-A8DE-C5A1E654F8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5921DF-37F2-4A2F-9D84-9F9D079E9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BD1DA6-DF2C-4262-87A1-3A56D81995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7A8CF3-1E18-47ED-87C1-D41E6747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43634D-6301-418A-820E-5345D99693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80E6197-CAC5-4F57-B047-624A95F539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C67E4C-CFD2-430F-A43F-0286C9F3A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88E43-7803-413C-AB52-D2262D045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797C65-1355-49AF-BD7F-A2B15F73BE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52F7831-6A46-4FC7-AAFC-AED026DC4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40905-D3E1-47CC-B78B-AEA60D9F7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8A597C-112C-4513-AACD-64D69F1B5C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44CA5C-A1AC-49A2-BAF2-1DCDAD16E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4832C0E-6B3A-4791-9FF3-C719C14B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AFAB2-2B6A-40C5-A4EC-ED1CBCDBF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1074F-FF70-4918-873E-261C9D254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93963-062E-405A-BCFA-21745C238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60C9FF-AAF9-4DC7-9F3D-288E760935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E5BF5F1-25E1-419C-8033-8A1381EF39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A18B063-5855-40BB-9FD0-1E2AF36B32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527AF2-98EB-4696-9762-42B85AE1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3004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A0E063D-5410-4231-8748-1238F7A29BCC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 type="dt" idx="28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6F73650-CF4E-4CFC-8D3B-8366812C8D8B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7D69484-2773-4938-A4EC-5A6327FADDE7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 type="dt" idx="3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 type="ftr" idx="3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AB3ED52-8AA1-44FB-839E-80ADFF24B766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 type="dt" idx="3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 type="ftr" idx="3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D62C762-CAE8-4D36-B5AA-B8F6DC505C58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 type="dt" idx="4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 type="ftr" idx="4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F917187-6C31-41B4-87CB-5721CC602F9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0FD02B54-1761-4579-9F1F-63B472DEBCB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91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3004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C71CC6B-C44A-48E3-A2C5-E428B376B97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5" name="Group 7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136" name="Rectangle 8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Rectangle 9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Rectangle 10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FC6BF007-70DD-4B4F-B6DB-F988422C623A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dt" idx="1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689163A4-2354-468D-BBFE-D14A39A5BAE9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 type="dt" idx="16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 type="ftr" idx="1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4F8E4E02-6D9F-4770-84AA-5D723A2C4860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9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92E771BC-F090-4C94-99D6-F93B06B27101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22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5F063388-9725-45B5-ABD1-38E125AC9065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Rectangle 7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Line 8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1080" rIns="9108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Rectangle 9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Rectangle 10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1240" indent="-2840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156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598760" indent="-22716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5960" indent="-22716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 type="dt" idx="25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 type="ftr" idx="2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  <a:defRPr b="0" lang="en-GB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fld id="{3F63408C-B818-482D-BBF2-558E2487C602}" type="slidenum">
              <a:rPr b="0" lang="en-GB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9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31" name="Rectangle 7"/>
          <p:cNvSpPr/>
          <p:nvPr/>
        </p:nvSpPr>
        <p:spPr>
          <a:xfrm>
            <a:off x="475920" y="2781360"/>
            <a:ext cx="808416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999900"/>
                </a:solidFill>
                <a:latin typeface="Arial"/>
              </a:rPr>
              <a:t>Technologická platforma Udržitelná energetik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9900"/>
                </a:solidFill>
                <a:latin typeface="Arial"/>
              </a:rPr>
              <a:t>Aleš Laciok, předseda výkonného výboru TP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000" spc="-1" strike="noStrike">
                <a:solidFill>
                  <a:srgbClr val="999900"/>
                </a:solidFill>
                <a:latin typeface="Arial"/>
              </a:rPr>
              <a:t>02/201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Platforma TPUE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33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4" name=""/>
          <p:cNvGraphicFramePr/>
          <p:nvPr/>
        </p:nvGraphicFramePr>
        <p:xfrm>
          <a:off x="836640" y="2736720"/>
          <a:ext cx="6262560" cy="3200400"/>
        </p:xfrm>
        <a:graphic>
          <a:graphicData uri="http://schemas.openxmlformats.org/drawingml/2006/table">
            <a:tbl>
              <a:tblPr/>
              <a:tblGrid>
                <a:gridCol w="1639800"/>
                <a:gridCol w="1541520"/>
                <a:gridCol w="1539720"/>
                <a:gridCol w="1541520"/>
              </a:tblGrid>
              <a:tr h="838440"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vozovatelé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ýrobci technologií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V a inženýrské organizac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chnické univerzi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Z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JS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V Řež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V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PS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Power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Ú Brno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ŠB-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VŘ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ZU Plzeň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ZČ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16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P Invest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72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viros, s.r.o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908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andys+Gy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P Prah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5" name="Text Box 57"/>
          <p:cNvSpPr/>
          <p:nvPr/>
        </p:nvSpPr>
        <p:spPr>
          <a:xfrm>
            <a:off x="434880" y="6043680"/>
            <a:ext cx="8807400" cy="7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Hledání širšího konsensu pro návrhy:  na základě Memoranda o spolupráci - MoS (uzavřeno s </a:t>
            </a:r>
            <a:r>
              <a:rPr b="1" lang="cs-CZ" sz="1400" spc="-1" strike="noStrike">
                <a:solidFill>
                  <a:srgbClr val="ff0000"/>
                </a:solidFill>
                <a:latin typeface="Arial"/>
              </a:rPr>
              <a:t>regionálními distribučními společnostmi, Teplárenským sdružením ČR, COGEN, Aliancí české energetiky, SÚRAO, Národním centrem pro energetické úspory</a:t>
            </a:r>
            <a:r>
              <a:rPr b="1" lang="cs-CZ" sz="1400" spc="-1" strike="noStrike">
                <a:solidFill>
                  <a:srgbClr val="000000"/>
                </a:solidFill>
                <a:latin typeface="Arial"/>
              </a:rPr>
              <a:t>,..…..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Rectangle 59"/>
          <p:cNvSpPr/>
          <p:nvPr/>
        </p:nvSpPr>
        <p:spPr>
          <a:xfrm>
            <a:off x="517680" y="1484280"/>
            <a:ext cx="8626320" cy="106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Zájmové sdružení právnických osob (2009) - sdružení relevantních subjektů (průmysl, výzkum,.) podílející se na výzkumu, vývoji a inovacích ve strategicky významné technologické oblasti; cílem je vytvořit střednědobou až dlouhodobou vizi budoucího technologického rozvoje a definovat tomu odpovídající výzkum a vývoj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1160"/>
                <a:tab algn="l" pos="1822320"/>
                <a:tab algn="l" pos="2733840"/>
                <a:tab algn="l" pos="3645000"/>
                <a:tab algn="l" pos="4556160"/>
                <a:tab algn="l" pos="5467320"/>
                <a:tab algn="l" pos="6378480"/>
                <a:tab algn="l" pos="7289640"/>
                <a:tab algn="l" pos="8201160"/>
                <a:tab algn="l" pos="9112320"/>
                <a:tab algn="l" pos="10023480"/>
                <a:tab algn="l" pos="1093464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Orgány TPUE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38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9" name=""/>
          <p:cNvGraphicFramePr/>
          <p:nvPr/>
        </p:nvGraphicFramePr>
        <p:xfrm>
          <a:off x="468360" y="3500280"/>
          <a:ext cx="8351640" cy="2519640"/>
        </p:xfrm>
        <a:graphic>
          <a:graphicData uri="http://schemas.openxmlformats.org/drawingml/2006/table">
            <a:tbl>
              <a:tblPr/>
              <a:tblGrid>
                <a:gridCol w="5769000"/>
                <a:gridCol w="2582640"/>
              </a:tblGrid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. Ing. František Hrdlička, CSc.- PŘEDSE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VU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c. Ing. Jaroslav Machan, CSc. - MÍSTOPŘEDSE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da VVI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Ladislav Štěpán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Z, a. 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Karel Křížek, M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V Řež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r. Ing. Jaroslava Ira, MB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oosan ŠKODA POWER a.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Jiří Kais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JS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Jiří Ptáček, Ph.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GÚ Brno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Eduard Muřický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P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hDr. Lukáš Levá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ŠMT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40" name=""/>
          <p:cNvGraphicFramePr/>
          <p:nvPr/>
        </p:nvGraphicFramePr>
        <p:xfrm>
          <a:off x="468360" y="1776240"/>
          <a:ext cx="8351640" cy="1390680"/>
        </p:xfrm>
        <a:graphic>
          <a:graphicData uri="http://schemas.openxmlformats.org/drawingml/2006/table">
            <a:tbl>
              <a:tblPr/>
              <a:tblGrid>
                <a:gridCol w="5737320"/>
                <a:gridCol w="2614320"/>
              </a:tblGrid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gr. Aleš Laciok, MBA - PŘEDSED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Z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Svatopluk Vnouč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ČEPS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2793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Jan Jíle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Škoda JS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Miroslav Horá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V Řež, a.s.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of. Ing. Stanislav Mišák, Ph.D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ŠB-TU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1" name="Text Box 651"/>
          <p:cNvSpPr/>
          <p:nvPr/>
        </p:nvSpPr>
        <p:spPr>
          <a:xfrm>
            <a:off x="491760" y="1436760"/>
            <a:ext cx="163584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Výkonný výb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 Box 652"/>
          <p:cNvSpPr/>
          <p:nvPr/>
        </p:nvSpPr>
        <p:spPr>
          <a:xfrm>
            <a:off x="468360" y="3213000"/>
            <a:ext cx="84963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Správní rada </a:t>
            </a:r>
            <a:r>
              <a:rPr b="0" lang="cs-CZ" sz="1600" spc="-1" strike="noStrike">
                <a:solidFill>
                  <a:srgbClr val="000000"/>
                </a:solidFill>
                <a:latin typeface="Arial"/>
              </a:rPr>
              <a:t>(žlutě – zástupci státní správ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Rectangle 658"/>
          <p:cNvSpPr/>
          <p:nvPr/>
        </p:nvSpPr>
        <p:spPr>
          <a:xfrm>
            <a:off x="496800" y="6021360"/>
            <a:ext cx="1850760" cy="33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Arial"/>
              </a:rPr>
              <a:t>Ředitel - Sekretář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4" name=""/>
          <p:cNvGraphicFramePr/>
          <p:nvPr/>
        </p:nvGraphicFramePr>
        <p:xfrm>
          <a:off x="468360" y="6308640"/>
          <a:ext cx="8351640" cy="277920"/>
        </p:xfrm>
        <a:graphic>
          <a:graphicData uri="http://schemas.openxmlformats.org/drawingml/2006/table">
            <a:tbl>
              <a:tblPr/>
              <a:tblGrid>
                <a:gridCol w="5791320"/>
                <a:gridCol w="2560320"/>
              </a:tblGrid>
              <a:tr h="27792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g. Lubor Žežul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2960"/>
                          <a:tab algn="l" pos="1825560"/>
                          <a:tab algn="l" pos="2738520"/>
                          <a:tab algn="l" pos="3651120"/>
                          <a:tab algn="l" pos="4564080"/>
                          <a:tab algn="l" pos="5477040"/>
                          <a:tab algn="l" pos="6389640"/>
                          <a:tab algn="l" pos="7302600"/>
                          <a:tab algn="l" pos="8215200"/>
                          <a:tab algn="l" pos="9128160"/>
                          <a:tab algn="l" pos="10040760"/>
                          <a:tab algn="l" pos="10953720"/>
                        </a:tabLst>
                      </a:pPr>
                      <a:r>
                        <a:rPr b="1" lang="cs-CZ" sz="12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ÚJV Řež, a.s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cc66"/>
                    </a:solidFill>
                  </a:tcPr>
                </a:tc>
              </a:tr>
            </a:tbl>
          </a:graphicData>
        </a:graphic>
      </p:graphicFrame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Co je charakteristické pro TPUE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46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47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Rectangle 5"/>
          <p:cNvSpPr/>
          <p:nvPr/>
        </p:nvSpPr>
        <p:spPr>
          <a:xfrm>
            <a:off x="324000" y="1798560"/>
            <a:ext cx="906444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omplexní pohled na energetik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liva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Elektřina, teplo/chl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Výroba – přenos/distribuce – konečné užit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derná energ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ovázání s evropskými strukturam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9" name="Skupina 5"/>
          <p:cNvGrpSpPr/>
          <p:nvPr/>
        </p:nvGrpSpPr>
        <p:grpSpPr>
          <a:xfrm>
            <a:off x="4643280" y="3803760"/>
            <a:ext cx="4186440" cy="2938320"/>
            <a:chOff x="4643280" y="3803760"/>
            <a:chExt cx="4186440" cy="2938320"/>
          </a:xfrm>
        </p:grpSpPr>
        <p:pic>
          <p:nvPicPr>
            <p:cNvPr id="650" name="Picture 2" descr=""/>
            <p:cNvPicPr/>
            <p:nvPr/>
          </p:nvPicPr>
          <p:blipFill>
            <a:blip r:embed="rId2"/>
            <a:stretch/>
          </p:blipFill>
          <p:spPr>
            <a:xfrm>
              <a:off x="4858920" y="3803760"/>
              <a:ext cx="3385800" cy="2330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51" name="Ellipse 9"/>
            <p:cNvGrpSpPr/>
            <p:nvPr/>
          </p:nvGrpSpPr>
          <p:grpSpPr>
            <a:xfrm>
              <a:off x="7611480" y="4789440"/>
              <a:ext cx="1218240" cy="961200"/>
              <a:chOff x="7611480" y="4789440"/>
              <a:chExt cx="1218240" cy="961200"/>
            </a:xfrm>
          </p:grpSpPr>
          <p:pic>
            <p:nvPicPr>
              <p:cNvPr id="652" name="Ellipse 9" descr=""/>
              <p:cNvPicPr/>
              <p:nvPr/>
            </p:nvPicPr>
            <p:blipFill>
              <a:blip r:embed="rId3"/>
              <a:stretch/>
            </p:blipFill>
            <p:spPr>
              <a:xfrm>
                <a:off x="7611480" y="4789440"/>
                <a:ext cx="1218240" cy="96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3" name=""/>
              <p:cNvSpPr/>
              <p:nvPr/>
            </p:nvSpPr>
            <p:spPr>
              <a:xfrm>
                <a:off x="7793280" y="4935960"/>
                <a:ext cx="855720" cy="66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100" spc="-1" strike="noStrike">
                    <a:solidFill>
                      <a:srgbClr val="000000"/>
                    </a:solidFill>
                    <a:latin typeface="Arial"/>
                    <a:ea typeface="Arial"/>
                  </a:rPr>
                  <a:t>NC2II</a:t>
                </a: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1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4" name="Ellipse 10"/>
            <p:cNvGrpSpPr/>
            <p:nvPr/>
          </p:nvGrpSpPr>
          <p:grpSpPr>
            <a:xfrm>
              <a:off x="7099920" y="5841720"/>
              <a:ext cx="1023120" cy="900360"/>
              <a:chOff x="7099920" y="5841720"/>
              <a:chExt cx="1023120" cy="900360"/>
            </a:xfrm>
          </p:grpSpPr>
          <p:pic>
            <p:nvPicPr>
              <p:cNvPr id="655" name="Ellipse 10" descr=""/>
              <p:cNvPicPr/>
              <p:nvPr/>
            </p:nvPicPr>
            <p:blipFill>
              <a:blip r:embed="rId4"/>
              <a:stretch/>
            </p:blipFill>
            <p:spPr>
              <a:xfrm>
                <a:off x="7099920" y="5841720"/>
                <a:ext cx="1023120" cy="9003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656" name=""/>
              <p:cNvSpPr/>
              <p:nvPr/>
            </p:nvSpPr>
            <p:spPr>
              <a:xfrm>
                <a:off x="7255440" y="5977440"/>
                <a:ext cx="713520" cy="628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r>
                  <a:rPr b="1" lang="en-US" sz="1000" spc="-1" strike="noStrike">
                    <a:solidFill>
                      <a:srgbClr val="0d0d0d"/>
                    </a:solidFill>
                    <a:latin typeface="Arial"/>
                    <a:ea typeface="Arial"/>
                  </a:rPr>
                  <a:t>ESNII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Flèche vers le bas 11"/>
            <p:cNvSpPr/>
            <p:nvPr/>
          </p:nvSpPr>
          <p:spPr>
            <a:xfrm>
              <a:off x="5155560" y="4579920"/>
              <a:ext cx="88560" cy="213840"/>
            </a:xfrm>
            <a:prstGeom prst="downArrow">
              <a:avLst>
                <a:gd name="adj1" fmla="val 50000"/>
                <a:gd name="adj2" fmla="val 48639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8" name="Flèche droite 12"/>
            <p:cNvSpPr/>
            <p:nvPr/>
          </p:nvSpPr>
          <p:spPr>
            <a:xfrm rot="1314000">
              <a:off x="6830640" y="6037200"/>
              <a:ext cx="267840" cy="88560"/>
            </a:xfrm>
            <a:prstGeom prst="rightArrow">
              <a:avLst>
                <a:gd name="adj1" fmla="val 50000"/>
                <a:gd name="adj2" fmla="val 51597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4886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9" name="Flèche droite 13"/>
            <p:cNvSpPr/>
            <p:nvPr/>
          </p:nvSpPr>
          <p:spPr>
            <a:xfrm rot="5400000">
              <a:off x="7930440" y="4545720"/>
              <a:ext cx="308880" cy="75960"/>
            </a:xfrm>
            <a:prstGeom prst="rightArrow">
              <a:avLst>
                <a:gd name="adj1" fmla="val 50000"/>
                <a:gd name="adj2" fmla="val 48608"/>
              </a:avLst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pPr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60" name="Picture 2" descr=""/>
            <p:cNvPicPr/>
            <p:nvPr/>
          </p:nvPicPr>
          <p:blipFill>
            <a:blip r:embed="rId5"/>
            <a:stretch/>
          </p:blipFill>
          <p:spPr>
            <a:xfrm>
              <a:off x="4643280" y="4839480"/>
              <a:ext cx="984600" cy="42012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Na čem se participovalo, co se prosazovalo</a:t>
            </a:r>
            <a:br>
              <a:rPr sz="2600"/>
            </a:b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a co se podařilo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62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63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Rectangle 5"/>
          <p:cNvSpPr/>
          <p:nvPr/>
        </p:nvSpPr>
        <p:spPr>
          <a:xfrm>
            <a:off x="324000" y="1873800"/>
            <a:ext cx="9064440" cy="31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iority orientovaného základního a aplikovaného VaV v Č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chválené vládou 20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ektorové debaty (ÚV), Národní inovační platformy a RIS3 strategi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Témata začleně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rosazování samostatného titulu podpory V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articipace na koncipování programu Theta (TAČ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trategický plán energetických technolo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Prioritní témata pro Č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68000" y="476280"/>
            <a:ext cx="633564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SVA a IAP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66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67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Rectangle 30"/>
          <p:cNvSpPr/>
          <p:nvPr/>
        </p:nvSpPr>
        <p:spPr>
          <a:xfrm>
            <a:off x="1187280" y="1989000"/>
            <a:ext cx="2665440" cy="503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Jaderná energeti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Rectangle 32"/>
          <p:cNvSpPr/>
          <p:nvPr/>
        </p:nvSpPr>
        <p:spPr>
          <a:xfrm>
            <a:off x="1187280" y="2541600"/>
            <a:ext cx="2665440" cy="503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Klasické zdroj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Rectangle 33"/>
          <p:cNvSpPr/>
          <p:nvPr/>
        </p:nvSpPr>
        <p:spPr>
          <a:xfrm>
            <a:off x="1189080" y="3079800"/>
            <a:ext cx="2663640" cy="64764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Opatřování, distribuc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a využití tep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Rectangle 34"/>
          <p:cNvSpPr/>
          <p:nvPr/>
        </p:nvSpPr>
        <p:spPr>
          <a:xfrm>
            <a:off x="1189080" y="3789360"/>
            <a:ext cx="2665440" cy="503280"/>
          </a:xfrm>
          <a:prstGeom prst="rect">
            <a:avLst/>
          </a:prstGeom>
          <a:solidFill>
            <a:srgbClr val="ccffcc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Sítě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Oval 35"/>
          <p:cNvSpPr/>
          <p:nvPr/>
        </p:nvSpPr>
        <p:spPr>
          <a:xfrm>
            <a:off x="5003640" y="2001960"/>
            <a:ext cx="2449800" cy="2154240"/>
          </a:xfrm>
          <a:prstGeom prst="ellipse">
            <a:avLst/>
          </a:prstGeom>
          <a:solidFill>
            <a:srgbClr val="cc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Inteligentní města a region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(Smart Cities and Communit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Rectangle 38"/>
          <p:cNvSpPr/>
          <p:nvPr/>
        </p:nvSpPr>
        <p:spPr>
          <a:xfrm>
            <a:off x="1116000" y="4406760"/>
            <a:ext cx="6049800" cy="648000"/>
          </a:xfrm>
          <a:prstGeom prst="rect">
            <a:avLst/>
          </a:prstGeom>
          <a:solidFill>
            <a:srgbClr val="cc99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Perspektivní energetické technologie a systémy s uplatněním v dlouhodobějším časovém horizont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Rectangle 39"/>
          <p:cNvSpPr/>
          <p:nvPr/>
        </p:nvSpPr>
        <p:spPr>
          <a:xfrm>
            <a:off x="7740720" y="1757520"/>
            <a:ext cx="1077840" cy="3292200"/>
          </a:xfrm>
          <a:prstGeom prst="rect">
            <a:avLst/>
          </a:prstGeom>
          <a:solidFill>
            <a:srgbClr val="ffcc00"/>
          </a:solidFill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 fontScale="90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Arial"/>
              </a:rPr>
              <a:t>Systémový pohled na energetiku (metodiky, data) – podpora vytváření vyvážených strategi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TextovéPole 1"/>
          <p:cNvSpPr/>
          <p:nvPr/>
        </p:nvSpPr>
        <p:spPr>
          <a:xfrm>
            <a:off x="406080" y="1589040"/>
            <a:ext cx="194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Tématické cílení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TextovéPole 13"/>
          <p:cNvSpPr/>
          <p:nvPr/>
        </p:nvSpPr>
        <p:spPr>
          <a:xfrm>
            <a:off x="554040" y="5373720"/>
            <a:ext cx="797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Arial"/>
              </a:rPr>
              <a:t>Další aspekty - mezinárodní spolupráce, organizace, lidské zdroje,…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Technologický foresight (2017 – 2019)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78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79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0" name=""/>
          <p:cNvGraphicFramePr/>
          <p:nvPr/>
        </p:nvGraphicFramePr>
        <p:xfrm>
          <a:off x="684360" y="2060640"/>
          <a:ext cx="7488000" cy="2992320"/>
        </p:xfrm>
        <a:graphic>
          <a:graphicData uri="http://schemas.openxmlformats.org/drawingml/2006/table">
            <a:tbl>
              <a:tblPr/>
              <a:tblGrid>
                <a:gridCol w="4895640"/>
                <a:gridCol w="2592360"/>
              </a:tblGrid>
              <a:tr h="35064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blast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Koordinátor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Spotřeba energie a energetické úspory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VIROS, s.r.o.,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Obnovitelné zdroje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ŠB-TU Ostrava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lektrické sítě včetně akumulace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GU Brn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ýroba a distribuce tepla včetně kogenerace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VUT v Brně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80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Energie v dopravě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VUT v Pra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620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Jaderné zdroje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ÚJV Řež, a. s.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7640">
                <a:tc>
                  <a:txBody>
                    <a:bodyPr lIns="68400" rIns="68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Fosilní zdroje energi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Bef>
                          <a:spcPts val="601"/>
                        </a:spcBef>
                        <a:spcAft>
                          <a:spcPts val="6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Calibri"/>
                        </a:rPr>
                        <a:t>ČVUT v Praz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400" marR="68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68360" y="47628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cs-CZ" sz="2600" spc="-1" strike="noStrike">
                <a:solidFill>
                  <a:srgbClr val="999900"/>
                </a:solidFill>
                <a:latin typeface="Garamond"/>
              </a:rPr>
              <a:t>Zásadní trendy v energetice</a:t>
            </a:r>
            <a:endParaRPr b="0" lang="en-US" sz="26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682" name="Picture 2" descr="TPUE_FINAL_25082009"/>
          <p:cNvPicPr/>
          <p:nvPr/>
        </p:nvPicPr>
        <p:blipFill>
          <a:blip r:embed="rId1"/>
          <a:stretch/>
        </p:blipFill>
        <p:spPr>
          <a:xfrm>
            <a:off x="6732720" y="266760"/>
            <a:ext cx="2232000" cy="1033560"/>
          </a:xfrm>
          <a:prstGeom prst="rect">
            <a:avLst/>
          </a:prstGeom>
          <a:ln w="0">
            <a:noFill/>
          </a:ln>
        </p:spPr>
      </p:pic>
      <p:sp>
        <p:nvSpPr>
          <p:cNvPr id="683" name="Rectangle 4"/>
          <p:cNvSpPr/>
          <p:nvPr/>
        </p:nvSpPr>
        <p:spPr>
          <a:xfrm>
            <a:off x="0" y="7537320"/>
            <a:ext cx="187200" cy="119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3240" rIns="93240" tIns="46440" bIns="464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33480"/>
                <a:tab algn="l" pos="1866960"/>
                <a:tab algn="l" pos="2800440"/>
                <a:tab algn="l" pos="3733920"/>
                <a:tab algn="l" pos="4667400"/>
                <a:tab algn="l" pos="5600880"/>
                <a:tab algn="l" pos="6534000"/>
                <a:tab algn="l" pos="7467480"/>
                <a:tab algn="l" pos="8400960"/>
                <a:tab algn="l" pos="9334440"/>
                <a:tab algn="l" pos="10267920"/>
              </a:tabLst>
            </a:pP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Obdélník 1"/>
          <p:cNvSpPr/>
          <p:nvPr/>
        </p:nvSpPr>
        <p:spPr>
          <a:xfrm>
            <a:off x="684360" y="1996920"/>
            <a:ext cx="77752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Dekarboniza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 (+ OZE a úspory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Decentraliz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Byla vždy (průmyslové energetiky), nyní výroba ele na lokální úrovni (domácí PV, popř. s akumulací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Digitalizace</a:t>
            </a:r>
            <a:r>
              <a:rPr b="0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 (senzorika, data,…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Komplexita systému a prolínání oborů – energetika / chemie / …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000000"/>
                </a:solidFill>
                <a:latin typeface="Calibri"/>
                <a:ea typeface="Calibri"/>
              </a:rPr>
              <a:t>Elektrifikace (hl. doprava, průmyslové procesy,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16T16:21:49Z</dcterms:created>
  <dc:creator>laciokale</dc:creator>
  <dc:description/>
  <dc:language>en-US</dc:language>
  <cp:lastModifiedBy>Soucek Ivan</cp:lastModifiedBy>
  <cp:lastPrinted>2017-09-26T08:31:40Z</cp:lastPrinted>
  <dcterms:modified xsi:type="dcterms:W3CDTF">2018-02-14T14:19:17Z</dcterms:modified>
  <cp:revision>121</cp:revision>
  <dc:subject/>
  <dc:title>Snímek 1</dc:title>
</cp:coreProperties>
</file>