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E1CC3-E8A6-4B24-8C55-83C8B820D9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99840" y="491436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35AC58-0BDC-4E49-916F-7AFD4C8010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6552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99840" y="4914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65520" y="4914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BE3F98F-50B6-4EBE-B7E9-AEA0CDC8C79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0440" y="364320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801400" y="364320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99840" y="491436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0440" y="491436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801400" y="4914360"/>
            <a:ext cx="242892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54A88B-C710-4D72-B9F5-1024116490F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99840" y="3643200"/>
            <a:ext cx="7543800" cy="243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4506F57-F71F-4DCB-A215-C36D423E0A5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75438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73584-29D5-462A-8010-854AA30259C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565520" y="364320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EFFFCD-B2A1-4B49-ADB5-D5057900C7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B94A8A-B4C7-4A21-924D-8F65B9DE54E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99840" y="227628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C8A8D-C998-47B1-BC7B-79A7440B87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565520" y="364320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99840" y="4914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AFAF8A-D8C6-4875-BB0D-DCEE7EE0F4A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368136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56552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65520" y="491436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CFE356-454F-435E-978F-4FA30182D0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9984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65520" y="3643200"/>
            <a:ext cx="368136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99840" y="4914360"/>
            <a:ext cx="7543800" cy="116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2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14CBE5-10C3-415E-A0B7-FB2B458FFD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8caf8"/>
            </a:gs>
            <a:gs pos="50000">
              <a:srgbClr val="ffffff"/>
            </a:gs>
            <a:gs pos="100000">
              <a:srgbClr val="98caf8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99840" y="227628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66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99840" y="3643200"/>
            <a:ext cx="7543800" cy="24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47000"/>
          </a:bodyPr>
          <a:p>
            <a:pPr marL="160920" indent="-16092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1" marL="349200" indent="-13428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2" marL="537120" indent="-107280">
              <a:spcBef>
                <a:spcPts val="22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3" marL="752040" indent="-107280">
              <a:spcBef>
                <a:spcPts val="2251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4" marL="966960" indent="-10728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5" marL="966960" indent="-10728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  <a:p>
            <a:pPr lvl="6" marL="966960" indent="-107280">
              <a:spcBef>
                <a:spcPts val="2251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66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659640" y="6381360"/>
            <a:ext cx="22860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BF229-F06E-45C5-9A0F-710545542A17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Obrázek 1" descr=""/>
          <p:cNvPicPr/>
          <p:nvPr/>
        </p:nvPicPr>
        <p:blipFill>
          <a:blip r:embed="rId2"/>
          <a:stretch/>
        </p:blipFill>
        <p:spPr>
          <a:xfrm>
            <a:off x="250920" y="189000"/>
            <a:ext cx="2762280" cy="718920"/>
          </a:xfrm>
          <a:prstGeom prst="rect">
            <a:avLst/>
          </a:prstGeom>
          <a:ln w="0">
            <a:noFill/>
          </a:ln>
        </p:spPr>
      </p:pic>
      <p:pic>
        <p:nvPicPr>
          <p:cNvPr id="4" name="Obrázek 2" descr=""/>
          <p:cNvPicPr/>
          <p:nvPr/>
        </p:nvPicPr>
        <p:blipFill>
          <a:blip r:embed="rId3"/>
          <a:stretch/>
        </p:blipFill>
        <p:spPr>
          <a:xfrm>
            <a:off x="6389640" y="189000"/>
            <a:ext cx="2503440" cy="647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vyzkum.cz/FrontClanek.aspx?idsekce=799318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66"/>
                </a:solidFill>
                <a:latin typeface="Arial"/>
              </a:rPr>
              <a:t>Konference Trendy vývoje a synergie v chemii a energetice </a:t>
            </a:r>
            <a:endParaRPr b="0" lang="en-US" sz="2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8920" y="4365720"/>
            <a:ext cx="6481800" cy="179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000066"/>
                </a:solidFill>
                <a:latin typeface="Arial"/>
              </a:rPr>
              <a:t>Setkání </a:t>
            </a: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ČTP pro udržitelnou chemii (SusChem), ČTP Plasty, TP pro udržitelnou energetiku, ČTP pro využití biosložek v dopravě a chemickém průmyslu, České vodíkové technologické platformy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66"/>
                </a:solidFill>
                <a:latin typeface="Arial"/>
              </a:rPr>
              <a:t>14. 2. 2018, Technopark Kralupy - VŠCHT</a:t>
            </a:r>
            <a:endParaRPr b="0" lang="en-US" sz="20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97160" y="692280"/>
            <a:ext cx="63072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Strategická výzkumná agen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250560" y="1287360"/>
            <a:ext cx="8497800" cy="495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TP pro udržitelnou energetiku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rategická výzkumná agenda v energetice“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(SVA) (2010)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e pokouší definovat vizi nasazování nových technologií v energetice ČR do roku 2050 a exportní příležitosti průmyslu v této oblasti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Implementační akční plán v energetice (2014)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zahrnuje následující tématické oblasti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ýroba elektřiny a tepla v jaderných zdrojích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ýroba elektřiny a tepla na fosilní paliv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ýroba distribuce chlad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lektrické sítě a jejich vazba na provoz a rozvoj ES ČR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nergie v dopravě a demostrace infrastruktur na úrovni velkých měst nebo regionů (Smart Cities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erspektivní energetické technologie k uplatnění v delším časovém horizontu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ystémové analýzy pro podporu efektivního a udržitelného rozvoje energetik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2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488E8-187E-45FA-9EA9-B5AD412C54C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97160" y="692280"/>
            <a:ext cx="6307200" cy="57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Strategická výzkumná agen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34560" y="980640"/>
            <a:ext cx="9037800" cy="587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ČTP PLASTY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Návrh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Strategické výzkumné agendy ČTP PLASTY“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(SVA) (2017)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vychází z analýzy vědecko-výzkumné a výrobní základny ČR a z možností komercializovat výsledky vývoje s cílem posílit konkurenceschopnost českého plastikářského průmyslu. SVA se orientuje na vývoj polymerních materiálů s vyšším obsahem know how, s novými funkcionalitami, na vývoj nových technologií, které budou dostatečně efektivní pro nové plasty s vlastnostmi šitými na míru a přátelské k životnímu prostředí. Je strukturována se záměrem posílit perspektivu komercializace. Zahrnuje celý životní cyklus výrobku od vstupů přes vlastní výrobu plastů, jejich zpracování, aplikace v různých odvětvích průmyslu, stavebnictví, zemědělství a spotřebním zboží až po recyklaci výrobku, vč. ukončení životního cyklu těchto matriálů s ohledem na rostoucí důraz na ochranu životního prostředí včetně moří a zákaz jejich skládkování od roku 2025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udie – Technologický foresight výroby a zpracování plastů v kontextu globálního vývoje (2017)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identifikuje a popisuje hlavní globální megatrendy, které budou ovlivňovat vývoj společnosti v dlouhodobém horizontu (za horizont roku 2030). Současně se studie zaměřuje na popis vybraných vývojových trendů v hlavních aplikačních sektorech pro uplatnění plastů. Pochopení těchto hlavních transformačních procesů je důležitým předpokladem pro identifikaci současných a budoucích výzev technologického vývoje v oblasti výroby a zpracování plastů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5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68A614-D886-4EA9-BB47-8EE935B7F8DB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2266920" y="764640"/>
            <a:ext cx="630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Strategická výzkumná agen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323640" y="1916280"/>
            <a:ext cx="8421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Česká vodíková technologická platforma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rategická výzkumná agenda rozvoje vodíkového hospodářství v ČR“(SVA) (2010)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identifikuje současný stav ve využívání vodíku jako energetického nosiče a zejména stanovuje cíle, kam by měl výzkum a využívání vodíku v ČR směřovat. Na SVA navazuje druhý dokument a tím je „Implementační akční plán rozvoje vodíkového hospodářství v ČR“ (IAP). Ten definuje způsob dosažení cílů, stanovených v SVA. Oba tyto dokumenty jsou v souladu s cíli a principy, které jsou definovány Fuel Cells And Hydrogen Joint Undertaking (FCH JU)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udie – Využití vodíkového pohonu v dopravě v České Republice (2017)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hodnotí potenciál využití vodíku v kontextu celosvětového a celoevropského technologického pokroku a trendů v této oblasti, a především při simulaci adopce vodíkové mobility v České republice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78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1E547-D50F-4E12-94C3-F2E9F35DABD7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66920" y="764640"/>
            <a:ext cx="630864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Strategická výzkumná agen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323640" y="1916280"/>
            <a:ext cx="8421480" cy="41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ČTP pro využití biosložek v dopravě a chemickém průmyslu 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rategická výzkumná agenda ČTPB“(SVA) (2010)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definuje pouze strategické oblasti zájmu v oblasti biopaliv v podmínkách České republiky (zdroje surovin, transfer na motorová paliva, udržitelnost produkce zdrojů surovin a transferu na motorová paliva, informační zdroje a jejich udržitelnost, legislativa a změny potřebné pro zajištění cílů Strategické výzkumné agendy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Rámec aktivit ČTPB v období 2017-2019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zahrnuje přehled možného zaměření ve 23 tématech v oblasti biopaliv 2 generace resp. chemických produktů (využití zemědělských odpadů, komunálních odpadů) a využítí CO2, výroba a využití el.energie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1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EFEDC-4F91-4A6A-9028-D5BAEB9B34DB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539640" y="1341000"/>
            <a:ext cx="7848720" cy="482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Pro naplnění svého poslání národní technologické platformy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Mají posilovat mezioborovou spolupráci</a:t>
            </a: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, neboť mezioborový přenos výsledků VaVaI může znásobit využitelnost těchto výsledků a multiplikovat ekonomický efekt plynoucí z VaVaI;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66"/>
                </a:solidFill>
                <a:latin typeface="Arial"/>
              </a:rPr>
              <a:t>Další zaměření: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Spolupráce, synergie a překryvy v chemii a energetice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3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455BD-FA34-4C5C-9327-4DE613A4FB29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258560" y="299700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6600" spc="-1" strike="noStrike">
                <a:solidFill>
                  <a:srgbClr val="000066"/>
                </a:solidFill>
                <a:latin typeface="Arial"/>
              </a:rPr>
              <a:t>Průniková témata</a:t>
            </a:r>
            <a:endParaRPr b="0" lang="en-US" sz="66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5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D56A1E-BCD4-41C9-B8A3-8AE6AC637F41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99840" y="90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66"/>
                </a:solidFill>
                <a:latin typeface="Arial"/>
              </a:rPr>
              <a:t>Průniková témata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99840" y="1773360"/>
            <a:ext cx="754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Příspěvek PLASTY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Suroviny a jejich dostupno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Energetická náročnost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Životní cyklu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Waste to energy/waste to sources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Vodík a uhlík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Příspěvek PLASTY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CO2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Kaly ČOV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Komunální odpad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Residua B1G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88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C2F6BE-30CC-44F4-B6D4-4066BD52C55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99840" y="90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66"/>
                </a:solidFill>
                <a:latin typeface="Arial"/>
              </a:rPr>
              <a:t>Průniková témata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99840" y="1773360"/>
            <a:ext cx="7543800" cy="496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Příspěvek TPUE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Dekarbonizace</a:t>
            </a:r>
            <a:r>
              <a:rPr b="0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 (+ OZE a úspory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Decentralizac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Byla vždy (průmyslové energetiky), nyní výroba ele na lokální úrovni (domácí PV, popř. s akumulací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Digitalizace</a:t>
            </a:r>
            <a:r>
              <a:rPr b="0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 (senzorika, data,….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Komplexita systému a prolínání oborů – energetika / chemie / ………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4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800" spc="-1" strike="noStrike">
                <a:solidFill>
                  <a:srgbClr val="000066"/>
                </a:solidFill>
                <a:latin typeface="Calibri"/>
                <a:ea typeface="Calibri"/>
              </a:rPr>
              <a:t>Elektrifikace (hl. doprava, průmyslové procesy,…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Příspěvek H2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Akumulace energ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„</a:t>
            </a: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čistá“ Mobilit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Surovina pro chemický průmysl (NH</a:t>
            </a:r>
            <a:r>
              <a:rPr b="0" lang="cs-CZ" sz="1800" spc="-1" strike="noStrike" baseline="-25000">
                <a:solidFill>
                  <a:srgbClr val="0000cc"/>
                </a:solidFill>
                <a:latin typeface="Tahoma"/>
              </a:rPr>
              <a:t>3</a:t>
            </a: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, CH</a:t>
            </a:r>
            <a:r>
              <a:rPr b="0" lang="cs-CZ" sz="1800" spc="-1" strike="noStrike" baseline="-25000">
                <a:solidFill>
                  <a:srgbClr val="0000cc"/>
                </a:solidFill>
                <a:latin typeface="Tahoma"/>
              </a:rPr>
              <a:t>4</a:t>
            </a: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, CH</a:t>
            </a:r>
            <a:r>
              <a:rPr b="0" lang="cs-CZ" sz="1800" spc="-1" strike="noStrike" baseline="-25000">
                <a:solidFill>
                  <a:srgbClr val="0000cc"/>
                </a:solidFill>
                <a:latin typeface="Tahoma"/>
              </a:rPr>
              <a:t>3</a:t>
            </a:r>
            <a:r>
              <a:rPr b="0" lang="cs-CZ" sz="1800" spc="-1" strike="noStrike">
                <a:solidFill>
                  <a:srgbClr val="0000cc"/>
                </a:solidFill>
                <a:latin typeface="Tahoma"/>
              </a:rPr>
              <a:t>OH aj.)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1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A3148-6E5A-4304-8ABA-798BEDD252E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99840" y="9075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200" spc="-1" strike="noStrike">
                <a:solidFill>
                  <a:srgbClr val="000066"/>
                </a:solidFill>
                <a:latin typeface="Arial"/>
              </a:rPr>
              <a:t>Průniková témata</a:t>
            </a:r>
            <a:endParaRPr b="0" lang="en-US" sz="4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99840" y="2133360"/>
            <a:ext cx="754380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cc"/>
                </a:solidFill>
                <a:latin typeface="Tahoma"/>
              </a:rPr>
              <a:t>Příspěvek SusChem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chemické materiály pro konverzi a skladování energií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katalyzátory pro udržitelné energie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inteligentní domy a budov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lektromobilit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nergie z obnovitelných zdrojů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nergetické využití odpadů/plastů - varianty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odíková energetik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Uhlík, jeho zdroje, koloběh a potřeba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94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7496B4-4FF7-45E2-BC42-0DB06C391C99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5B24A-84C7-4E9F-B484-058100F48638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Obdélník 1"/>
          <p:cNvSpPr/>
          <p:nvPr/>
        </p:nvSpPr>
        <p:spPr>
          <a:xfrm>
            <a:off x="324000" y="1639800"/>
            <a:ext cx="8621640" cy="479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0.30 – 11.00 Registrace účastníků, káva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1.00 – 11.15 Úvodní slovo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1.15 – 11.45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Vazby mezi chemií a energetikou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, prof. RNDr. Václav Pačes, DrSc.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1.45 – 12.45 Prezentace aktivit a vizí národních technologických platforem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usChem, Plasty, Biopaliva, Udržitelná energetika a České vodíkové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technologické platformy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2.45 – 13.15 Přestávka, občerstvení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3.15 – 14.45 Moderovaná diskuse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Spolupráce, synergie a překryvy v chemii a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energetice“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.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růřezová témata: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CO</a:t>
            </a:r>
            <a:r>
              <a:rPr b="0" lang="cs-CZ" sz="1800" spc="-1" strike="noStrike" baseline="-25000">
                <a:solidFill>
                  <a:srgbClr val="000066"/>
                </a:solidFill>
                <a:latin typeface="Arial"/>
              </a:rPr>
              <a:t>2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, materiály pro konverzi a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skladování energií, inteligentní domy a budovy, alternativní zdroje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energie, vodík, elektromobilita – výroba elektřiny, tepla, doprava i zdroj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pro chemický průmysl, energetické a surovinové využití odpadů/plastů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cirkulární ekonomika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4.45 – 15.15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hrnutí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a Návrh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odkladů pro další spolupráci a jednání se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	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átní správou o činnosti a podpoře technologických platforem</a:t>
            </a:r>
            <a:br>
              <a:rPr sz="1800"/>
            </a:b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15.15 – 16.00 Občerstvení, networking, neformální diskus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131640" y="861480"/>
            <a:ext cx="396108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PROGRAM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Zástupný symbol pro číslo snímku 3"/>
          <p:cNvSpPr/>
          <p:nvPr/>
        </p:nvSpPr>
        <p:spPr>
          <a:xfrm>
            <a:off x="8559720" y="6381720"/>
            <a:ext cx="385920" cy="2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333C5-9E64-43E2-9101-F3417829A682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25080" y="907920"/>
            <a:ext cx="8837640" cy="766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500" spc="-1" strike="noStrike">
                <a:solidFill>
                  <a:srgbClr val="000066"/>
                </a:solidFill>
                <a:latin typeface="Arial"/>
              </a:rPr>
              <a:t>Struktura tržeb ve zpracovatelském průmyslu ( %) podle novosti produktu podniků s produktovou inovací</a:t>
            </a:r>
            <a:endParaRPr b="0" lang="en-US" sz="2500" spc="-1" strike="noStrike">
              <a:solidFill>
                <a:srgbClr val="000066"/>
              </a:solidFill>
              <a:latin typeface="Arial"/>
            </a:endParaRPr>
          </a:p>
        </p:txBody>
      </p:sp>
      <p:pic>
        <p:nvPicPr>
          <p:cNvPr id="48" name="Obrázek 1" descr=""/>
          <p:cNvPicPr/>
          <p:nvPr/>
        </p:nvPicPr>
        <p:blipFill>
          <a:blip r:embed="rId1"/>
          <a:stretch/>
        </p:blipFill>
        <p:spPr>
          <a:xfrm>
            <a:off x="2139840" y="1628640"/>
            <a:ext cx="6896160" cy="4800600"/>
          </a:xfrm>
          <a:prstGeom prst="rect">
            <a:avLst/>
          </a:prstGeom>
          <a:ln w="0">
            <a:noFill/>
          </a:ln>
        </p:spPr>
      </p:pic>
      <p:sp>
        <p:nvSpPr>
          <p:cNvPr id="49" name="Obdélník 5"/>
          <p:cNvSpPr/>
          <p:nvPr/>
        </p:nvSpPr>
        <p:spPr>
          <a:xfrm>
            <a:off x="0" y="5923080"/>
            <a:ext cx="338472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900" spc="-1" strike="noStrike" u="sng">
                <a:solidFill>
                  <a:srgbClr val="0070c0"/>
                </a:solidFill>
                <a:uFillTx/>
                <a:latin typeface="Arial"/>
              </a:rPr>
              <a:t>Zdroj:</a:t>
            </a:r>
            <a:r>
              <a:rPr b="1" i="1" lang="cs-CZ" sz="900" spc="-1" strike="noStrike">
                <a:solidFill>
                  <a:srgbClr val="0070c0"/>
                </a:solidFill>
                <a:latin typeface="Arial"/>
              </a:rPr>
              <a:t> Analýza stavu výzkumu, vývoje a inovací v České republice a jejich srovnání se zahraničím v roce 2015 </a:t>
            </a:r>
            <a:r>
              <a:rPr b="0" lang="cs-CZ" sz="900" spc="-1" strike="noStrike" u="sng">
                <a:solidFill>
                  <a:srgbClr val="4d4d4d"/>
                </a:solidFill>
                <a:uFillTx/>
                <a:latin typeface="Arial"/>
                <a:hlinkClick r:id="rId2"/>
              </a:rPr>
              <a:t>http://www.vyzkum.cz/FrontClanek.aspx?idsekce=799318</a:t>
            </a:r>
            <a:r>
              <a:rPr b="1" i="1" lang="cs-CZ" sz="900" spc="-1" strike="noStrike">
                <a:solidFill>
                  <a:srgbClr val="0070c0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Obdélník 1"/>
          <p:cNvSpPr/>
          <p:nvPr/>
        </p:nvSpPr>
        <p:spPr>
          <a:xfrm>
            <a:off x="0" y="1844640"/>
            <a:ext cx="213984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2060"/>
                </a:solidFill>
                <a:latin typeface="Calibri"/>
                <a:ea typeface="Calibri"/>
              </a:rPr>
              <a:t>Podpora inovací je posláním technologických platforem a jejich příspěvek pro zajištění konkurence-schopnosti navazujících průmyslových odvětví a tím i celého národního hospodářství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692000" y="907560"/>
            <a:ext cx="6264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České technologické platfor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323640" y="1452240"/>
            <a:ext cx="8621640" cy="540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Technologické platformy jsou sdružení průmyslových podniků, malých a středních podniků, výzkumných a finančních institucí, zástupců Evropské komise, orgánů veřejné správy, uživatelů a spotřebitelů a organizací podílejících se na výzkumu, vývoji a inovacích v daném průmyslovém odvětví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Konkrétní cíle národních technologických platforem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·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vypracování strategií a podpora rozvoje oborů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tvorba strategií rozvoje a podpory výzkumu, vývoje a zejména inovací v jednotlivých průmyslových oblastech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·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transformace evropských strategií do národních strategií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aktivní spolupráce s evropskými technologickými platformami s cílem transformovat evropské strategické plány do národních plánů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·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aplikace výsledků výzkumu do výroby a služeb: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aktivovat a posílit spolupráci průmyslových podniků, zejména MSP, s výzkumnými a vzdělávacími institucemi s cílem aplikovat poznatky vědy a výzkumu těchto institucí v konkrétních inovovaných výrobcích a službách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·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zefektivnění prostředí podpory VaVaI v ČR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: jako nezávislé instituce se účastnit tvorby obsahu programů podporujících výzkum a vývoj v ČR, snaha o harmonizaci obsahu podpor se strategickými plány rozvoje definovanými NTP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3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FE7DB-E2C9-4A07-A71C-9FC691CECAE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692000" y="907560"/>
            <a:ext cx="6264360" cy="544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České technologické platfor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323640" y="1844640"/>
            <a:ext cx="8621640" cy="442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Pro naplnění svého poslání národní technologické platformy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Mají společně prosazovat jmenované cíle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, neboť pouze efektivní a koordinovaná podpora VaVaI v ČR může přinést výsledky v podobě posílení konkurenceschopnosti českých podniků a v důsledku toho i posílení celé české ekonomiky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Mají posilovat mezioborovou spolupráci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, neboť mezioborový přenos výsledků VaVaI může znásobit využitelnost těchto výsledků a multiplikovat ekonomický efekt plynoucí z VaVaI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Mají společné propagovat VaVaI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Mají posilovat spolupráci se zástupci veřejné správy a s dalšími organizacemi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: Hospodářskou komorou ČR, Svazem průmyslu a dopravy ČR, Technologickou agenturou ČR, Technologickým centrem </a:t>
            </a:r>
            <a:r>
              <a:rPr b="0" lang="pl-PL" sz="1800" spc="-1" strike="noStrike">
                <a:solidFill>
                  <a:srgbClr val="000066"/>
                </a:solidFill>
                <a:latin typeface="Arial"/>
              </a:rPr>
              <a:t>Akademie věd ČR a dalšími.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6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9E840-24CA-41D0-90D1-87E474F4EB1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692360" y="907560"/>
            <a:ext cx="6408720" cy="7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Národní technologické platfomy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394920" y="2133360"/>
            <a:ext cx="8048520" cy="408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Česká technologická platforma pro udržitelnou chemii (ČTP SusChem),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Technologická platforma pro udržitelnou energetiku (TPUE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Česká technologická platforma PLASTY (ČTP Plasty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Česká technologická platforma pro využití biosložek v dopravě a chemickém průmyslu (ČTP Bio) 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  <a:p>
            <a:pPr marL="343080" indent="-343080">
              <a:spcBef>
                <a:spcPts val="18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66"/>
                </a:solidFill>
                <a:latin typeface="Arial"/>
              </a:rPr>
              <a:t>Česká vodíková technologická platforma (ČVTP)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59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4A33CB-7A7A-4D46-BDBC-F1C8C6D066DD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7CC550-C6AB-4B5A-B6FB-5AAC260D7942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Obdélník 1"/>
          <p:cNvSpPr/>
          <p:nvPr/>
        </p:nvSpPr>
        <p:spPr>
          <a:xfrm>
            <a:off x="250920" y="1574640"/>
            <a:ext cx="8569080" cy="49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Arial"/>
              </a:rPr>
              <a:t>Česká technologická platforma pro udržitelnou chemii (ČTP SusChem)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 2005 byla ustavena Česká technologická platforma pro udržitelnou chemii (ČTP SusChem). Úkolem platformy je podpora aktivit a iniciativ organizací působících ve prospěch rozvoje chemie a chemického průmyslu v České republice a s tím spojených vědeckých, výzkumných, technologických a inovačních aktivit. Cílem platformy je zkoumat, identifikovat a eliminovat potenciální rizika vývoje chemie ve třech základních oblastech: průmyslové biotechnologie, technologie materiálů a nové typy reakcí a procesů a to s ohledem na technologickou vyspělost, šetrnost k životnímu prostředí, legislativu a surovinovou dostatečn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Arial"/>
              </a:rPr>
              <a:t>Česká technologická platforma PLASTY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Vznik platformy byl iniciován v roce 2010 Svazem chemického průmyslu ČR (vznik v roce 2011) jako nástroj k podpoře a rozvoji mezinárodní spolupráce včetně zapojení do realizace hlavních činností spolupracujících evropských struktur, zejména PlasticsEurope; výzkumu, vývoje, inovací a vědecko-technického rozvoje včetně veřejného šíření výsledků VaVaI formou školení, publikací nebo transferu znalostí v sektoru výroby, zpracování, využití a recyklace plastů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339640" y="836280"/>
            <a:ext cx="475308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Historie a poslání ČTP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369E0C-D7BD-4736-8ABA-D5EF721ACBF0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Obdélník 1"/>
          <p:cNvSpPr/>
          <p:nvPr/>
        </p:nvSpPr>
        <p:spPr>
          <a:xfrm>
            <a:off x="104760" y="1197000"/>
            <a:ext cx="9037800" cy="218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Arial"/>
              </a:rPr>
              <a:t>Technologická platforma pro udržitelnou energetik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Byla založena v 2009 jako institucionální nástroj pro podporu aktivit souvisejících s výz-kumem, vývojem a zaváděním technologií využitelných pro udržitelný rozvoj výroby, přenosu a spotřeby moderních forem energie v ČR. TPUE mapuje a analyzuje techno-logické trendy a jejich vliv na energetiku,  podporuje aktivity pro zvýšení efektivity výzkumu a vývoje,  napomáhá zapojení do mezinárodního výzkumu a vývoje v energetice a poskytuje informace o vývoji energetických technologií pro širší veřejnost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339640" y="790560"/>
            <a:ext cx="4753080" cy="50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66"/>
                </a:solidFill>
                <a:latin typeface="Arial"/>
              </a:rPr>
              <a:t>Historie a poslání ČTP</a:t>
            </a:r>
            <a:endParaRPr b="0" lang="en-US" sz="32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6" name="Obdélník 1"/>
          <p:cNvSpPr/>
          <p:nvPr/>
        </p:nvSpPr>
        <p:spPr>
          <a:xfrm>
            <a:off x="108000" y="3284640"/>
            <a:ext cx="9036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Arial"/>
              </a:rPr>
              <a:t>ČTP pro využití biosložek v dopravě a chemickém průmyslu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Byla založena v roce 2008 s původním cílem vytvořit a poskytovat expertní prostředí pro přípravu, vývoj, aplikaci a rozvoj použití biosložek v dopravě a v chemickém průmyslu v České republice. Hlavní činností ČTPB je analýza a hodnocení dostupnosti, kvality, ekonomiky a udržitelného pěstování biomasy, komerční dostupnosti, ekonomiky konverzních zařízení, včetně předzpracování a logistiky a sociálních a environmentálních aspektů pěstování biomasy pro konverzi na biosložky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 u="sng">
                <a:solidFill>
                  <a:srgbClr val="000066"/>
                </a:solidFill>
                <a:uFillTx/>
                <a:latin typeface="Arial"/>
              </a:rPr>
              <a:t>Česká vodíková technologická platforma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Byla založena v roce 2006 MPO ČR jako nástroj k podpoře vzájemné informovanosti subjektů působících v oblasti vodíkových technologií a koordinace aktivit souvisejících s rozvojem těchto aplikací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66920" y="765000"/>
            <a:ext cx="6308640" cy="719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 u="sng">
                <a:solidFill>
                  <a:srgbClr val="000066"/>
                </a:solidFill>
                <a:uFillTx/>
                <a:latin typeface="Arial"/>
              </a:rPr>
              <a:t>Strategická výzkumná agenda</a:t>
            </a:r>
            <a:endParaRPr b="0" lang="en-US" sz="24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178920" y="1341000"/>
            <a:ext cx="876636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ČTP SusChem: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Návrh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„Strategické výzkumné agendy pro materiálové technologie“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(SVA) (2017)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 vychází z analýzy vědecko-výzkumné a výrobní základny ČR a z možností komercializovat výsledky vývoje s cílem posílit životaschopnost českého průmyslu. SVA se orientuje na podporu vývoje materiálů s vyšším využitím know how, s novými funkcionalitami, na vývoj nových technologií, které budou dostatečně efektivní pro nové materiály s vlastnostmi šitými na míru a přátelské k životnímu prostředí. Je strukturována aplikačně se záměrem posílit perspektivu komercializace. Zahrnuje fotovoltaiku, efektivní světelné zdroje, katalyzátory, spotřební zboží (např. stavební materiály, nátěrové hmoty, textil, kosmetiku), nanokompozity a materiály pro farmaceutický průmysl a zdravotnictví. SVA definuje prioritní výzkumná témata ve střednědobém a dlouhodobém horizontu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66"/>
                </a:solidFill>
                <a:latin typeface="Arial"/>
              </a:rPr>
              <a:t>Studie – Technologický foresight chemického průmyslu ČR v kontextu globálního vývoje (2017) </a:t>
            </a:r>
            <a:r>
              <a:rPr b="0" lang="cs-CZ" sz="1800" spc="-1" strike="noStrike">
                <a:solidFill>
                  <a:srgbClr val="000066"/>
                </a:solidFill>
                <a:latin typeface="Arial"/>
              </a:rPr>
              <a:t>identifikuje a popisuje hlavní globální megatrendy, které budou ovlivňovat vývoj společnosti v dlouhodobém horizontu (za horizont roku 2030). Současně se studie zaměřuje na popis vybraných vývojových trendů v hlavních aplikačních sektorech pro uplatnění chemie, nezbytných pro identifikaci současných a budoucích výzev technologického vývoje v oblasti udržitelné chemie. </a:t>
            </a:r>
            <a:endParaRPr b="0" lang="en-US" sz="1800" spc="-1" strike="noStrike">
              <a:solidFill>
                <a:srgbClr val="000066"/>
              </a:solidFill>
              <a:latin typeface="Arial"/>
            </a:endParaRPr>
          </a:p>
        </p:txBody>
      </p:sp>
      <p:sp>
        <p:nvSpPr>
          <p:cNvPr id="69" name="Zástupný symbol pro číslo snímku 3"/>
          <p:cNvSpPr/>
          <p:nvPr/>
        </p:nvSpPr>
        <p:spPr>
          <a:xfrm>
            <a:off x="6659640" y="638172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7454B5-8345-4B97-BB44-1841406BC454}" type="slidenum">
              <a:rPr b="0" lang="cs-CZ" sz="1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adislav Novak</dc:creator>
  <dc:description/>
  <dc:language>en-US</dc:language>
  <cp:lastModifiedBy>Soucek Ivan</cp:lastModifiedBy>
  <cp:lastPrinted>2018-02-06T10:35:39Z</cp:lastPrinted>
  <dcterms:modified xsi:type="dcterms:W3CDTF">2018-02-14T14:18:40Z</dcterms:modified>
  <cp:revision>232</cp:revision>
  <dc:subject/>
  <dc:title>Prezentace aplikace PowerPoint</dc:title>
</cp:coreProperties>
</file>